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1B18-6C9D-4005-91DD-75C76B2E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3CA-59DD-4DC7-BE78-E3D43FE7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676-A8DA-4DA3-8D63-BA826FB3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679-5331-4288-8318-F662BCAB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F649-94C2-43E1-8F10-7D43E7F8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7FCF-E52A-4783-8FBF-7874A02E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29C8-8F3E-4546-A390-018C5575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1F1E-1A1C-43AB-B52F-B0FE805A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4B73-6FDC-4859-832C-03AF5548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00EE-330E-4C6B-8A20-EA13281C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AC33-AF60-471F-BA91-FE6012E5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E01-1FD9-41D9-A770-38C1D2EC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3A95-A27C-419A-80C2-8F35F5B5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17AF-9955-403A-9FD2-9402B0EB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9A4A-026F-4995-B336-8EC83192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72BC-0F31-4E6B-946E-B537CEB0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37A7-971A-44AD-B722-B4AD4A3A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9120D-9921-4BB6-8399-167B2A00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81251-6F29-49D5-9AD5-53CF26E5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3000C-8AB2-4627-9061-52D7C8A8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93A9D-0E6E-467A-A3B6-0D077453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7BE72-8D04-4905-812F-90A1D2F3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688-E80D-4817-9059-A47CBB3B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1A849-AC48-4BCF-ACFC-BF593CDD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6F2F8-DE2A-46E5-8B33-AB9F00A7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C4823-FD94-4101-AFC8-3F7E8054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7C805-09C1-47CD-8BDB-ECFDE107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175B-AD29-4374-887F-D32A15BD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BD1C2-4DE4-4356-8453-404743D0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81C19-B31F-4477-BB79-5A00D615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1EE02-FF37-43FA-A9CF-52550D50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BE642-902F-4C8A-8E49-73E71C49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0DE27-A496-49AE-B816-0CD32D8A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201-440A-46E1-886D-8A71E1E8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6959D-2449-4DB6-9092-864BC21F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9F90B-448B-405C-9177-5161BD9F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1528B-4A00-45EE-B818-F8C5E94D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AEBB1-A2E0-4EC1-99D4-97CBCF9B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C60EB-44C7-4862-B534-B04FE49B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F8246-D3A8-4AD4-83C9-6B8B9E2A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641A4-6CB4-4CED-B0C9-DA810DC8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23A41-D2CA-4D96-8A60-54D32178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2BD3A-E7E1-4409-919A-B40FF06E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08D-83A2-41D4-8FFD-D5746CAE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F0B-6D83-4E1B-97DA-79470AC6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F744-EC3B-43C4-B9C7-91FEDEE1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351-8DDC-405F-ADF8-B1148BC9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FA0-B070-4D8F-B7B2-0F379BAC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2AB0-8DA0-4774-8425-44AE98E00EE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7357-9006-43D5-89D9-148E0AEF2A7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FE8E-B876-4592-A1CE-25A9C50B3B7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B576-05CF-4924-AEEF-BAD2C750DD6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1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 a comment to your previous program to explain who created it, when, and for which purpo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0FB8-E22C-4C64-A8A5-3553C88382B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ta Typ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: +ve or –ve natural nu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: +ve or –ve decimal nu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10.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“Hello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71ED-24B2-4E9C-9D40-C28610A72FA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a function called myCircle() tha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r as 10.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pi as 3.1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area of the circle as pi*r*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 perimeter of the circle as 2*pi*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the following mess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circle with radius …, area=… and perimeter=….”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replaced the dots before with the radius, calculated area, and calculated perimet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r to be 20.5 and re-execute the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C6AF-2151-47C4-B4B4-D8CE9BA79FE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tiv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e programming, using the Jython programming languag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will be written using the Jython Environment for Students (J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d of this tutorial, you should be familiar wi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vari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consta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1FB6-A103-40F3-B9F0-1BB4C14E909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Jython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ython is an implementation of the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yth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nguage written in the java programming langu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ys of writing cod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box (for codes you want to save in fil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box (interactive window) for ad-hoc c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2B15-A2ED-4DC9-BD10-E1D7A933B2A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Content Placeholder 6" descr="JESBlackWindow.png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62360"/>
          </a:xfrm>
          <a:prstGeom prst="rect">
            <a:avLst/>
          </a:prstGeom>
          <a:ln w="0">
            <a:noFill/>
          </a:ln>
        </p:spPr>
      </p:pic>
      <p:sp>
        <p:nvSpPr>
          <p:cNvPr id="2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BEEE-CCDD-4B80-9C7A-0CF86A9D2B0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J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interactive window (black box), writ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"Hello World!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"Hello” + “ python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 "Hello” + “ JES“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ust add a space before the second 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get the last typed statement by using upper arr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use double quotes before and after tex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8EEF-54FA-4E78-88F4-577C908988B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c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can be written only in white bo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funcName(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“Hello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take care that you must make inden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xecute a func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e it first with to a fi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 load butt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black box write:  funcName(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18A0-9716-42CC-B241-64EC9AD5A2E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function th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s your name and your ID; e.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434960" indent="-4572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a Said:  1300999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x=10, y=20, pri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/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9A6A-CFE0-48C0-AFBE-619A37AFBC2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your output should look lik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a Said: 134898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y = 3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*y=20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/y=0.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y=-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DF6E-4F62-4788-93F7-45CD688BBAF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s are very important for docum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not being executed. This is just for your understand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rite a commen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# in the beginning of the stat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his program was created by Dina Said as an example for CPSC771, week1-lab1 of problem solving on March 4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09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AED6-2C99-41B1-8F2A-97E7CD93253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3-04T19:56:12Z</dcterms:modified>
  <cp:revision>152</cp:revision>
  <dc:subject/>
  <dc:title>CPSC 203</dc:title>
</cp:coreProperties>
</file>